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667-3D34-4BDD-81DE-8167C289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44B-12D6-4F27-BD41-210FFC4C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2CA-C552-411F-9385-4EBEF040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AA1-78E0-498F-B485-573915D8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8F2-F9DF-47F8-A2D6-5FCD7C72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B60-EB8C-4D48-B593-360AC8D7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45F-0693-484A-A045-B5A83640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FA4-B599-493B-AEF0-A98D3A9E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2C5-CE67-4B44-AA88-BA66A05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7D8-81EE-4814-8D97-BFBDF048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1FC-772F-45BD-A3F1-B836B623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EBE-F90F-440E-A1A5-8229E60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3A73C-728D-4B8F-AFA9-24B543E40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60849-18D8-4679-A746-8193C9E71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OINA BALCACE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T7240</a:t>
            </a:r>
            <a:fld id="{F0DE9798-101D-4EA3-9E22-DBC2F7FDC359}" type="slidenum">
              <a:rPr b="0" lang="en-US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HAPPENS WHEN I DO NOT HAVE ENOUGH CALCIUM IN MY BOD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BONES BECOME WEEK AND YOU GET DISEASES LIKE OSTEOPO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INFORMATION OF 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52480" y="2057400"/>
          <a:ext cx="5486400" cy="2941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IC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78 a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TING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0°C (1112.15K,1542.2°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ILLING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ALINE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structure of Calcium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2"/>
          <a:stretch/>
        </p:blipFill>
        <p:spPr>
          <a:xfrm>
            <a:off x="450720" y="1573200"/>
            <a:ext cx="82425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about atomic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Gsf7jhWr6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can I get Calciu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6:37:02Z</dcterms:created>
  <dc:creator>College of Education</dc:creator>
  <dc:description/>
  <dc:language>en-US</dc:language>
  <cp:lastModifiedBy>College of Education</cp:lastModifiedBy>
  <dcterms:modified xsi:type="dcterms:W3CDTF">2009-07-25T18:55:35Z</dcterms:modified>
  <cp:revision>5</cp:revision>
  <dc:subject/>
  <dc:title>CALCIUM</dc:title>
</cp:coreProperties>
</file>